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69740"/>
        <c:axId val="8722835"/>
      </c:barChart>
      <c:catAx>
        <c:axId val="54869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835"/>
        <c:crosses val="autoZero"/>
        <c:auto val="1"/>
        <c:lblAlgn val="ctr"/>
        <c:lblOffset val="100"/>
        <c:noMultiLvlLbl val="0"/>
      </c:catAx>
      <c:valAx>
        <c:axId val="8722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69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F45-C02A-4EFD-80E2-8AE5466D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BF2-4A69-4A84-BC96-6CFA90B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8C9-3ADF-4831-A528-F240AD3D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AE8-C720-49CD-BC41-210414A6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509-46EC-4440-ABA2-86F064B8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1EB-B5D8-42AF-ABD7-08DFDC92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86A-BE2F-44F3-BD2F-3DCE3425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5B5-5C5E-417D-8220-D41A9A8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DA9-E9DC-474A-BA2F-87CCF8B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E0D-D703-4835-84C2-7507A8F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44A-E1F0-4336-A8C9-C983604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49A-4D9C-425B-8E9F-6CE9B24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269C2-BA4F-4E23-AD50-AD44553078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