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754395"/>
        <c:axId val="93187946"/>
      </c:barChart>
      <c:catAx>
        <c:axId val="587543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87946"/>
        <c:crosses val="autoZero"/>
        <c:auto val="1"/>
        <c:lblAlgn val="ctr"/>
        <c:lblOffset val="100"/>
        <c:noMultiLvlLbl val="0"/>
      </c:catAx>
      <c:valAx>
        <c:axId val="931879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543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E3D9-8573-48FA-9A21-DB29CD2B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BB74-CBDD-4588-AA79-F0114BE7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5021-FFD6-4462-A8E7-0249A3DB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3806-3181-4423-9A10-FFC4FAB6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BA50-0D8F-499F-8450-83C9576E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4F5F-8E62-46D4-8081-F8B71813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A48A-56C7-4978-A667-0FCDDF6D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0DF5-1410-4012-BC2A-8053E6F2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D247-4F35-4CFB-B834-5AEBA6C2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C508-7E74-4868-B4A7-25906791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68F6-4989-47E2-9324-B162FE66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0B78-5E4A-4348-924E-CDD2CBFC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43E06-118C-4FDB-8FD2-E63300F288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